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  <p:custShowLst>
    <p:custShow name="(1.1)" id="0">
      <p:sldLst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26D0-A992-4D2E-894A-33FAF7B1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294-3998-47DF-88BA-3E88C4E2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F3D-8C9F-463F-87D2-E6327970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C29-04AE-4E44-8F4E-A0D1A062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E409-C7CD-4BB2-BC5D-04941A9C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A99A-F9C5-4044-BA7D-B8F949B6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15BE-769C-42F6-8C81-86F12222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7FE7-5121-4768-8662-5DD83259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36EF-D0B0-4963-9B9F-557BCF2A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B84F-35EA-4734-9DA9-70BEEC94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4242-F138-4DA7-B615-2357065A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F77-1D8B-4DCB-BAC3-778A9C47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2C82-CC36-4292-856A-E8B73B24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4C15-78EF-4486-8324-A47458B1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D46B-DDBA-4E58-9BDC-FEE8C994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E8A0-D62A-4CBE-AB84-6109BF92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D555-6AB5-4B16-BEBC-EB2006A1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7F74-36A2-4DE2-9B44-09D913AD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48F9-2B48-4F2F-A354-5AD85BB6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0C632-2E39-4D80-889D-9FD3021D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B9FC4-976A-4E4D-BE53-FC780AEE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126B0-C82F-4EAA-B904-88857A6C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6CF-26E1-4C16-BF2C-0EEC3E7F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07107-DBC9-4580-8D6C-72BDFF56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E3C46-70CE-40FD-921A-C71E084C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A1FD2-9C41-408E-8230-A5948180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B322-1117-4655-B5B9-5ECB8E29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0A586-D5DC-4783-AC48-1D24610A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6E8B4-2B96-4EF2-AC37-17ACDFCE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CF15D-68A6-48E8-9436-E520612D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B7CB-1801-4639-A90D-56AE924D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47E1E-8946-4457-8107-11AC4FF7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96C78-C7B8-4487-92D1-72E5C332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613-4B5E-4D96-B1BF-D80C38FB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6D097-7B61-436D-9059-7F18A5EA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6129C-EFD8-40A5-85D2-BB633536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AD0D0-D939-4611-9CBA-64DA7372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DD913-3769-45D0-BF3C-26FAE579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0854B-3915-4601-8722-C5754AB2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29BEE-D9FD-4AC6-874D-808AEC70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907C5-A782-4D60-92F5-CE73DDF2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773A1-CC95-4691-9EF6-B9945F90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533FB-1CAD-4AE3-A0AF-2F14EC6D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98070-A4CD-482A-A9FA-2B965B43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508-BA8E-46EB-85C8-A87E1B36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3E3B1-0D6C-4F40-A270-5D4BA3D2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85D0B-09A7-4782-ABF3-FF1D8B79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E536C-8A2B-4B23-880C-FD263B52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DEE60-2BB7-47F6-A25C-2DF3D3DE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D4A86-68BF-453B-B7C1-1DB653C5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B24BB-103F-44EF-A7A1-121DC9EB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68D74-6446-480C-A0B5-179BF129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40876-3235-48A4-A040-C0824058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6FFE3-BCF2-4B04-A063-C8A91645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A811E-B928-4A68-98FD-32A1F0BD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FC7-56E4-4EDD-A1DC-28D94F30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8EFAB-354C-429B-A0AB-F01A3D9A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8BC06-E373-4D9A-9E2A-D13F5A55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665B7-D6FA-48B4-A515-2AC1CA22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D311C-50D0-4597-BC6B-A98AD361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9AC6A-9E8F-4560-A63A-ABB3F695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EF1BE-063E-4269-BF52-0A91BFF5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31945-A6F5-4D17-9DB7-D8143C72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FC493-2959-45AE-ACC8-33ABCDE6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B6985-8D69-4918-87F8-2E5DEF20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E7EC9-5CC9-4344-B282-60E9A150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C51-BA3E-4399-85D4-399684E0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F1626-2A07-4F9D-ABF5-D45537AD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114BE-B7B5-4131-81B8-2327283F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1807D-D0E4-4686-91FE-0DA4B4BA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73A19-231E-4D12-A2A8-8E156613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1476C-EBC6-4DA9-9B49-A0982629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C7FEA-6604-46FA-906A-DC796771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99A26-4C4B-4CA7-94C1-E3743059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D2FAF-23C1-4941-B542-DF8A7C3A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15BFC-6097-4508-9E3F-810E0F3E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5118F-14DE-45EE-83EF-09E05470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64C-3E93-4DCC-BBA4-DF1AA30B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8C70A-D8C4-410E-985B-AF8CA84A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4658E-9EA8-422F-A548-2C774D19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6F441-9267-4E7C-A7D0-03612814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7B87E-97FA-44AB-B36D-7E3FDCD4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62922-D6F5-46D7-B1F5-E5607EE9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FE4-BE08-4C66-ACEE-5FB0284D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7BF7-68D5-48D3-A054-512E6B189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7FAC-8A67-460E-9806-911764AE300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3611-799C-4748-99CA-684C74D95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A37F-392D-4CAE-ABEA-5A836A29C1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1B15-2B1C-4677-ABCA-23729FFA1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3DEC-76FE-4020-9252-68F1C327B55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9B5F-E5BB-45A6-90C8-F4890C15F04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3" descr=""/>
          <p:cNvPicPr/>
          <p:nvPr/>
        </p:nvPicPr>
        <p:blipFill>
          <a:blip r:embed="rId1"/>
          <a:stretch/>
        </p:blipFill>
        <p:spPr>
          <a:xfrm>
            <a:off x="1517760" y="4645080"/>
            <a:ext cx="6516720" cy="1841400"/>
          </a:xfrm>
          <a:prstGeom prst="rect">
            <a:avLst/>
          </a:prstGeom>
          <a:ln w="0">
            <a:noFill/>
          </a:ln>
        </p:spPr>
      </p:pic>
      <p:sp>
        <p:nvSpPr>
          <p:cNvPr id="30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76a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76a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_______</a:t>
            </a:r>
            <a:endParaRPr b="0" lang="en-US" sz="2400" spc="1" strike="noStrike">
              <a:ln w="0">
                <a:noFill/>
              </a:ln>
              <a:solidFill>
                <a:srgbClr val="0076a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largest la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Lake Vic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,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animal has a scre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that  sounds like laughter?</a:t>
            </a:r>
            <a:r>
              <a:rPr b="1" lang="en-US" sz="4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Hye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hottest count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Lib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smallest trib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El Mo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long is the coast lin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(in mil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18,950 mile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,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3236"/>
              <a:gd name="adj2" fmla="val 1277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What animal has big feet, b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has only three to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Rh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10666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second mo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populated count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Ethio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990720" y="990720"/>
            <a:ext cx="7162560" cy="4038480"/>
          </a:xfrm>
          <a:prstGeom prst="wedgeRectCallout">
            <a:avLst>
              <a:gd name="adj1" fmla="val -21231"/>
              <a:gd name="adj2" fmla="val 10685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oldest trib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Bush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many different species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 </a:t>
            </a: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animals are there in 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,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11430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animal looks lik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It has a tear mark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on its fa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990720" y="3808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Cheet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228600" y="152280"/>
            <a:ext cx="167652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African Anim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2286000" y="152280"/>
            <a:ext cx="175248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African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4876920" y="152280"/>
            <a:ext cx="16002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African Trib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6934320" y="152280"/>
            <a:ext cx="175248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Other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 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41"/>
          <p:cNvSpPr/>
          <p:nvPr/>
        </p:nvSpPr>
        <p:spPr>
          <a:xfrm>
            <a:off x="1447920" y="129528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fifth larges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country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Ch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largest trib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Su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big is 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(in Square mil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11.7 square m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ow 1, Col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A horse like animal with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Strip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295280" y="228600"/>
            <a:ext cx="7086600" cy="4597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Ze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10666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larges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count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Sud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838080" y="9907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What tribe  is kn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 </a:t>
            </a: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for their mask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Bob tri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longest river 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N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,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11430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animal has a big thic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man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1600200" y="137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many countries 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In 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empus Sans ITC"/>
              </a:rPr>
              <a:t>5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many tribes are in 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About  3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88303</cp:lastModifiedBy>
  <cp:lastPrinted>2001-01-31T16:21:13Z</cp:lastPrinted>
  <dcterms:modified xsi:type="dcterms:W3CDTF">2010-10-29T16:01:18Z</dcterms:modified>
  <cp:revision>9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